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7ED-9FC6-413E-9CCB-EDB50A83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DBB-7F4B-4B74-81B3-34E7BD98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07B-F47E-4EA0-99D3-CB86D8E7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D8B-877E-4D1D-A6DB-ED83347E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5672-4F1F-47FE-A58E-69B7686D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5238-494C-45DA-B186-0FAE2804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2837-1FC3-4B67-A748-20A242D0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9C69-E577-4604-9500-0A010787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2650-E57F-4F73-B5DA-0EB16E6E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D879-B68E-40D3-BB42-F2C97C0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03AB-EB2D-41C3-96AA-B439595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41E-665D-499E-B611-9E315061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8BAC-4799-422D-8333-752D24E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7574-6CD7-45F1-85C7-CD9E9FC4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F6E2-9F0F-4E65-9CC2-C2CA9DAC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3A00-1638-4AA6-901F-E88EEDF7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A458-1DD2-44E0-A30C-A2D7AB88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721-2229-4D0D-9F23-48BBB85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120-D283-4432-9193-FA813E54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BDE-A454-4944-B8A9-A8FB0AE7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826-B3DA-436A-96B5-4E53F86B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EA5-454A-4E0D-A712-E4267AB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026-46EE-4F9F-A0F0-C7ABC5F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81D-733E-4CBD-BDD3-2963D9E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A8C-2A53-4D53-B907-EE6725DA62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9E2B-3449-4E3D-A2B8-1A022ACE74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One%20Dark%20Night.htm" TargetMode="External"/><Relationship Id="rId2" Type="http://schemas.openxmlformats.org/officeDocument/2006/relationships/hyperlink" Target="http://www.scottsboro.org/~flewis/SF%20Reading%20Street/spellmaster/One%20Dark%20Night/jigword2.html" TargetMode="External"/><Relationship Id="rId3" Type="http://schemas.openxmlformats.org/officeDocument/2006/relationships/hyperlink" Target="http://www.scottsboro.org/~flewis/SF%20Reading%20Street/spellmaster/One%20Dark%20Night/matchword2.html" TargetMode="External"/><Relationship Id="rId4" Type="http://schemas.openxmlformats.org/officeDocument/2006/relationships/hyperlink" Target="http://www.scottsboro.org/~flewis/SF%20Reading%20Street/spellmaster/One%20Dark%20Night/speedword2.html" TargetMode="External"/><Relationship Id="rId5" Type="http://schemas.openxmlformats.org/officeDocument/2006/relationships/hyperlink" Target="http://www.scottsboro.org/~flewis/SF%20Reading%20Street/spellmaster/One%20Dark%20Night/wordsearch2.html" TargetMode="External"/><Relationship Id="rId6" Type="http://schemas.openxmlformats.org/officeDocument/2006/relationships/hyperlink" Target="http://www.scottsboro.org/~flewis/SF%20Reading%20Street/spellmaster/One%20Dark%20Night/wordweb.html" TargetMode="External"/><Relationship Id="rId7" Type="http://schemas.openxmlformats.org/officeDocument/2006/relationships/hyperlink" Target="http://www.spellingcity.com/index.php?option=com_spellcity&amp;task=viewList&amp;listId=825620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One%20Dark%20Night%20Spelling%20Words/speedword2.html" TargetMode="External"/><Relationship Id="rId10" Type="http://schemas.openxmlformats.org/officeDocument/2006/relationships/hyperlink" Target="http://www.scottsboro.org/~flewis/SF%20Reading%20Street/spellmaster/One%20Dark%20Night%20Spelling%20Words/wordweb.html" TargetMode="External"/><Relationship Id="rId11" Type="http://schemas.openxmlformats.org/officeDocument/2006/relationships/hyperlink" Target="http://www.quia.com/jg/1136615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25" TargetMode="External"/><Relationship Id="rId14" Type="http://schemas.openxmlformats.org/officeDocument/2006/relationships/hyperlink" Target="http://www.spellingcity.com/index.php?option=com_spellcity&amp;task=viewList&amp;listId=825625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hyperlink" Target="http://images.google.com/imgres?imgurl=http://www.kristianstad.se/upload/Sprak/bilder/pellets%25202.jpg&amp;imgrefurl=http://www.kristianstad.se/sv/Kristianstads-kommun/Sprak/English/Environment/Pellets/&amp;usg=__OoVy_y-HFUreKH4tD-mE0lI0Obs=&amp;h=472&amp;w=472&amp;sz=57&amp;hl=en&amp;start=3&amp;tbnid=imq9FZO6WJX9UM:&amp;tbnh=129&amp;tbnw=129&amp;prev=/images?q=pellets&amp;hl=en&amp;rlz=1T4GGLR_enUS263US266&amp;sa=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thebaitwarehouse.co.uk/images/10MM%2520COURSE%2520CARP%2520PELLET.jpg&amp;imgrefurl=http://www.thebaitwarehouse.co.uk/index.php?cPath=21&amp;usg=__79N6ibZUtFpVjxWMbwas8uSsyu8=&amp;h=640&amp;w=427&amp;sz=87&amp;hl=en&amp;start=7&amp;tbnid=uAUP91-2yu4jqM:&amp;tbnh=137&amp;tbnw=91&amp;prev=/images?q=pellets&amp;hl=en&amp;rlz=1T4GGLR_enUS263US266&amp;sa=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www.statoilhydro.com/en/NewsAndMedia/News/2008/Downloads/pellets-0002558-hires.jpg&amp;imgrefurl=http://www.statoilhydro.com/en/NewsAndMedia/News/2008/Pages/selger_pellets.aspx&amp;usg=__ZlAIWBhS-_Sc9v_stbwo0x8Or9E=&amp;h=5000&amp;w=3299&amp;sz=986&amp;hl=en&amp;start=60&amp;tbnid=xU0349cZ1gHytM:&amp;tbnh=150&amp;tbnw=99&amp;prev=/images?q=pellets&amp;start=40&amp;ndsp=20&amp;hl=en&amp;rlz=1T4GGLR_enUS263US266&amp;sa=N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hyperlink" Target="http://images.google.com/imgres?imgurl=http://img.dailymail.co.uk/i/pix/2007/04_03/litter0205_468x550.jpg&amp;imgrefurl=http://www.dailymail.co.uk/news/article-452205/Bill-Brysons-war-heartbreaking-litter-blighting-Britain.html&amp;usg=__U9axfNPv1FdNX0GNuH408Jp_Qhs=&amp;h=550&amp;w=468&amp;sz=134&amp;hl=en&amp;start=1&amp;tbnid=7S-3wK8BXwKr7M:&amp;tbnh=133&amp;tbnw=113&amp;prev=/images?q=litter&amp;hl=en&amp;rlz=1T4GGLR_enUS263US266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hinkleycenter.com/photos/litter/images/litter%2520(9).jpg&amp;imgrefurl=http://www.hinkleycenter.com/photos/litter.htm&amp;usg=__avVlACexYzM0M-49C1DMVwBMgMA=&amp;h=375&amp;w=500&amp;sz=93&amp;hl=en&amp;start=7&amp;tbnid=_uC8ZcMDmLEYNM:&amp;tbnh=98&amp;tbnw=130&amp;prev=/images?q=litter&amp;hl=en&amp;rlz=1T4GGLR_enUS263US266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ouryarra.melbournewater.com.au/images/litter_trap.jpg&amp;imgrefurl=http://ouryarra.melbournewater.com.au/content/river_health/what_affects_river_health/what_affects_river_health.asp&amp;usg=__-BFq2p2oeIBrtaKqx9vgJCCXWwA=&amp;h=287&amp;w=290&amp;sz=24&amp;hl=en&amp;start=25&amp;tbnid=aoy3Qdjto1CncM:&amp;tbnh=114&amp;tbnw=115&amp;prev=/images?q=litter&amp;start=20&amp;ndsp=20&amp;hl=en&amp;rlz=1T4GGLR_enUS263US266&amp;sa=N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www.portsdown.org/images/gallery/g_alpha/litter.jpg&amp;imgrefurl=http://www.portsdown.org/ref/a_tasks.htm&amp;usg=__eIxquB3wTdtoSIfP4xP_61klpNI=&amp;h=480&amp;w=640&amp;sz=61&amp;hl=en&amp;start=34&amp;tbnid=BQ19Gb3srTFpyM:&amp;tbnh=103&amp;tbnw=137&amp;prev=/images?q=litter&amp;start=20&amp;ndsp=20&amp;hl=en&amp;rlz=1T4GGLR_enUS263US266&amp;sa=N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newsimg.bbc.co.uk/media/images/42879000/jpg/_42879401_collected_litter.jpg&amp;imgrefurl=http://news.bbc.co.uk/2/hi/in_pictures/6619625.stm&amp;usg=__Jub6R6IW8uecvo-NUQbmm04uNpE=&amp;h=300&amp;w=416&amp;sz=74&amp;hl=en&amp;start=56&amp;tbnid=hHzGMOWAMqCUbM:&amp;tbnh=90&amp;tbnw=125&amp;prev=/images?q=litter&amp;start=40&amp;ndsp=20&amp;hl=en&amp;rlz=1T4GGLR_enUS263US266&amp;sa=N" TargetMode="External"/><Relationship Id="rId11" Type="http://schemas.openxmlformats.org/officeDocument/2006/relationships/image" Target="../media/image10.jpeg"/><Relationship Id="rId12" Type="http://schemas.openxmlformats.org/officeDocument/2006/relationships/hyperlink" Target="http://images.google.com/imgres?imgurl=http://www.sunshineshilohs.com/puppies/1st%2520litter/images/litter.jpg&amp;imgrefurl=http://www.sunshineshilohs.com/puppies/1st%2520litter/1st%2520litter.htm&amp;usg=__wmeh0UwYA5RbyC8G6f9JxTyEMgc=&amp;h=394&amp;w=500&amp;sz=35&amp;hl=en&amp;start=78&amp;tbnid=ClqXyHOwbU6CbM:&amp;tbnh=102&amp;tbnw=130&amp;prev=/images?q=litter&amp;start=60&amp;ndsp=20&amp;hl=en&amp;rlz=1T4GGLR_enUS263US266&amp;sa=N" TargetMode="External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slide" Target="slide80.xml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john-daly.com/pics/storm1.jpg&amp;imgrefurl=http://www.john-daly.com/picsl/sc.htm&amp;usg=__loZ7oWnfxX1qbl14SEibBdkkC6c=&amp;h=600&amp;w=900&amp;sz=118&amp;hl=EN&amp;start=18&amp;tbnid=ycfG_IXhOcSyHM:&amp;tbnh=97&amp;tbnw=146&amp;prev=/images?q=storm&amp;gbv=2&amp;hl=EN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climatesecurity.org/blog/wp-content/uploads/2008/04/storm350x425.jpg&amp;imgrefurl=http://blog.climatesecurity.org/?p=75&amp;usg=__QEuZMa1d24sPoxOTYzk42dzw0p4=&amp;h=425&amp;w=350&amp;sz=26&amp;hl=EN&amp;start=24&amp;tbnid=K-uoX49VidqEOM:&amp;tbnh=126&amp;tbnw=104&amp;prev=/images?q=storm&amp;start=18&amp;gbv=2&amp;ndsp=18&amp;hl=EN&amp;sa=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m/imgres?imgurl=http://img.timeinc.net/time/photoessays/2007/ice_storm/ice_storm_01.jpg&amp;imgrefurl=http://www.time.com/time/photogallery/0,29307,1693458,00.html&amp;usg=__XJ3ujFGY93ktMm9Zy7JAcrk79gw=&amp;h=404&amp;w=611&amp;sz=143&amp;hl=EN&amp;start=36&amp;tbnid=UHAZz16xLJw6kM:&amp;tbnh=90&amp;tbnw=136&amp;prev=/images?q=storm&amp;start=18&amp;gbv=2&amp;ndsp=18&amp;hl=EN&amp;sa=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images.google.com/imgres?imgurl=http://nyc.metblogs.com/archives/images/2006/02/02.06%2520snowstorm_third%2520ave%2520umbrella.JPG&amp;imgrefurl=http://skywatch-media.com/2007/03/uk-braced-for-arctic-snowstorms.html&amp;usg=__09L53lRxXbPnOLduZQt0mQO1tHM=&amp;h=972&amp;w=1296&amp;sz=212&amp;hl=EN&amp;start=2&amp;tbnid=B7P2B6ZfT34ZlM:&amp;tbnh=113&amp;tbnw=150&amp;prev=/images?q=snowstorm&amp;gbv=2&amp;hl=EN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m/imgres?imgurl=http://www.shadesofsuccess.net/arturo_d_kerr/images/2008/01/18/snowstorm0108jv.jpg&amp;imgrefurl=http://www.shadesofsuccess.net/arturo_d_kerr/2008/01/bostons-snowsto.html&amp;usg=__On_c-zb9BzFKRcG1wG_t8fR4FQY=&amp;h=480&amp;w=640&amp;sz=106&amp;hl=EN&amp;start=28&amp;tbnid=7h2iKG-EOuEYUM:&amp;tbnh=103&amp;tbnw=137&amp;prev=/images?q=snowstorm&amp;start=18&amp;gbv=2&amp;ndsp=18&amp;hl=EN&amp;sa=N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images.google.com/imgres?imgurl=http://www.thetechherald.com/media/images/200849/storm_Fabiano_1.jpg&amp;imgrefurl=http://www.thetechherald.com/article.php/200849/2534/BlackBerry-Storm-receives-celebrity-criticism&amp;usg=__7wSMiloV4lvAGZeyZzgg_4cR3Rg=&amp;h=400&amp;w=600&amp;sz=20&amp;hl=EN&amp;start=148&amp;tbnid=TyCv8qIjRY0GfM:&amp;tbnh=90&amp;tbnw=135&amp;prev=/images?q=storm&amp;start=144&amp;gbv=2&amp;ndsp=18&amp;hl=EN&amp;sa=N" TargetMode="External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mcgonnigle.files.wordpress.com/2007/02/lightning.jpg&amp;imgrefurl=http://mcgonnigle.wordpress.com/2007/02/05/of-400-lightning-strikes-a-year/&amp;usg=__u5PBmtGeRLDLgNjnbjgrLCUp8gE=&amp;h=600&amp;w=800&amp;sz=69&amp;hl=EN&amp;start=3&amp;tbnid=Z7FUmpMkVF71UM:&amp;tbnh=107&amp;tbnw=143&amp;prev=/images?q=lightning&amp;gbv=2&amp;hl=EN&amp;sa=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m/imgres?imgurl=http://static.howstuffworks.com/gif/lightning-gallery-18.jpg&amp;imgrefurl=http://science.howstuffworks.com/lightning9.htm&amp;usg=__-aE_1sFZTG5iBDUMOoQmlwYAmuY=&amp;h=320&amp;w=400&amp;sz=14&amp;hl=EN&amp;start=2&amp;tbnid=t_NmS3Ch2Yp5kM:&amp;tbnh=99&amp;tbnw=124&amp;prev=/images?q=lightning&amp;gbv=2&amp;hl=EN&amp;sa=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images.google.com/imgres?imgurl=http://www.lifeclever.com/wp-content/uploads/2008/01/lightning.jpg&amp;imgrefurl=http://www.lifeclever.com/the-lightning-bolt/&amp;usg=__ay4a9wcREMe4BlQDkZnHCNQ2Wls=&amp;h=314&amp;w=450&amp;sz=35&amp;hl=EN&amp;start=5&amp;tbnid=6BxWXN8nh8fnoM:&amp;tbnh=89&amp;tbnw=127&amp;prev=/images?q=lightning&amp;gbv=2&amp;hl=EN&amp;sa=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images.google.com/imgres?imgurl=http://www.ma.utexas.edu/users/kschalm/Lightning%2520&amp;%2520Tornado.jpg&amp;imgrefurl=http://tkcollier.wordpress.com/2008/03/&amp;usg=__TyPmK3KUg8H1cwnwr1gr-fNA-Eg=&amp;h=600&amp;w=800&amp;sz=25&amp;hl=EN&amp;start=8&amp;tbnid=P84Yhd2JjuJ1IM:&amp;tbnh=107&amp;tbnw=143&amp;prev=/images?q=lightning&amp;gbv=2&amp;hl=EN&amp;sa=G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images.google.com/imgres?imgurl=http://akvis.com/img/examples/lightshop/lightning/rain-and-lightning.jpg&amp;imgrefurl=http://akvis.com/de/lightshop-tutorial/examples/lightning.php&amp;usg=__foPi0s_cJtf9jLVgRHXu78ZFShU=&amp;h=420&amp;w=560&amp;sz=64&amp;hl=EN&amp;start=7&amp;tbnid=71-LhOX6NvO20M:&amp;tbnh=100&amp;tbnw=133&amp;prev=/images?q=lightning&amp;gbv=2&amp;hl=EN&amp;sa=G" TargetMode="External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3.xml"/><Relationship Id="rId3" Type="http://schemas.openxmlformats.org/officeDocument/2006/relationships/slide" Target="slide90.xml"/><Relationship Id="rId4" Type="http://schemas.openxmlformats.org/officeDocument/2006/relationships/slide" Target="slide130.xml"/><Relationship Id="rId5" Type="http://schemas.openxmlformats.org/officeDocument/2006/relationships/slide" Target="slide153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6" descr="One Dark Nigh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35200" y="2019240"/>
            <a:ext cx="454032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animals live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li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_____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______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____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____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gular and Plural Pronou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One Dark N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bout a cat and he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help you understand what you read, you can classify, or group, related words and phra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is story, the author uses words and phrases to describe the cat and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grouping these words together, you can picture what the cat and kittens look lik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words and phrases that describe the cat o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all, dark, stray, soft as whispers, gray as da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further classify these words by grouping them into words about the cat and words about the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jamal herd a cat out sid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Jamal heard a cat outside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he unlocked the dor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He unlocked the door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two poems about people who decide to give some cats a ho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240" y="4107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6765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ime that you experienced bad or scary wea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unloved cats who find a home. They are reassured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lov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ts who find a home. They are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assur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ing and Listening: Use Telephones and Voice M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disagree—this certainly does not look like a full mo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’re going to want to reread this great new book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e was either the first or second blue ribbon winner at the preschoo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s it unfair to say this is the worst juice I have ever had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ill you replay the tape of the cook in the funny suit that made me laugh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food is great but do not reheat any more because I am ful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om get a new bed for hour ca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Mom got a new bed for our ca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ole one was unsaif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old one was unsafe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 – cer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have a reason to worry about something, you hav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i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omething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you by giving you an uneasy fee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h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us crossing the street at the busy interse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I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’t they in a nest?” she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“What is in the box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’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a nest?”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e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 and clear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complete, accurate inform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pol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on the topic.  Don’t ram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 – th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the process of something getting bigger or develop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rother had 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purt of two inches last year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’d like to see mo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ur vegetable pl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ene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careful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e down the mess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iver th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Connections:  Text to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poems about cats who find a new home.  Tomorrow we will hear again about what happens during the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7524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puppy with a growth spurt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838080" y="2057400"/>
          <a:ext cx="7010640" cy="418788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showing concern for animals. We can do many things to look after them. Why is it important to care for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 Gra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 – tec - 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eep something from being harmed or damaged, you give i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asement gives u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ornad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citizens ge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he pol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replay the preview so I can see how the actors re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unpaid ticket the he disagrees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prepay our movers when we reloc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undo this ribbon so you can retie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d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is ribbon so you c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onder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tudied words like this alrea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you know about reading the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’ll learn about adding prefixes </a:t>
            </a:r>
            <a:r>
              <a:rPr b="1" i="1" lang="en-US" sz="3200" spc="-1" strike="noStrike">
                <a:solidFill>
                  <a:srgbClr val="ffcc66"/>
                </a:solidFill>
                <a:latin typeface="Verdana"/>
              </a:rPr>
              <a:t>un-, re-, pre-, 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he beginning of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____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___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prefix has a specific mean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un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n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a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bef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cat disappaered in the gra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cat disappeared in the grass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y was afraid of dog.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It was afraid of the dog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 Grap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 graphs help readers compare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read the title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information at the bottom and sides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low the bar across and see where it ends to find out the information you are looking f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rap Up Your Week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hunderstor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ind Pets New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two-syllable word formed from the base word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the prefix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chunk the word into its parts—the prefix and the bas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cover the prefix, read the base word, and then blend the prefix and the base word to read the whol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3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8720" y="2268360"/>
            <a:ext cx="67705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r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ll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p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i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pp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afra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ch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f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oy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m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m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o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h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i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a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cho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wri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Firefigh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l, in order, three things that happened in that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ld the last thing have happened first?  Why n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equence &amp; Graphic Organiz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pay attention to the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there are helpful clue words, such a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ex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inal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the sequence.  Sometimes there aren’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keep track of sequence by using a graphic organizer to record events as we read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helps us remember the correct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ille un lock the doo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lock the door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ell unpack her groceries?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pack her grocerie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ord that takes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om helps animals.  She works for a v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is a pronoun that names one person—Mo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ometimes Dad and I help.  We feed the anim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is a pronoun that names more than one—Dad and 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____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____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___said,”Drive to Dr. Klute’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”Drive to Dr. Klute’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”Drive to Dr. Klute’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lling Words with Prefix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boy and his grandfather help some stray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600200" y="2666880"/>
          <a:ext cx="6095880" cy="3260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oncern you ha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concern for a family of cats. They need protection from a storm.  What do animals need for growth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concer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or a family of cats. They need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rom a storm.  What do animals need for </a:t>
                      </a:r>
                      <a:r>
                        <a:rPr b="1" i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rowt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 - gi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can break or be damaged easily, it i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delicate wings of a butterfly a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nock over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vase, it will brea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spider web look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but it is quite stro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 - le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small balls of material pressed together, very often a kind of animal f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ony poured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to the rabbit’s bow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dog likes dog food made from beef-flavore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     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7" descr="pellets%25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10MM%2520COURSE%2520CARP%2520PELLE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1828800"/>
            <a:ext cx="1923840" cy="2895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pellets-0002558-hir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0720" y="1600200"/>
            <a:ext cx="236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8120" y="1219320"/>
          <a:ext cx="3352680" cy="51814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rtain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i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’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 - 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craps or pieces of trash left ar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w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stands after the football g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picked up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our school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Picture 6" descr="litter0205_468x5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1600200"/>
            <a:ext cx="1942920" cy="2286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litter%2520(9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1600200"/>
            <a:ext cx="3429000" cy="2584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litter_tra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1600200"/>
            <a:ext cx="2619360" cy="2595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litt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427212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_42879401_collected_litte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267080"/>
            <a:ext cx="2486160" cy="1791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litt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4284720"/>
            <a:ext cx="23814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prefix and base word for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wr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clas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d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isturb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r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Pick out the words with these prefixes in “Kitten Rescue.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19160" y="2327040"/>
            <a:ext cx="3733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happ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plea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fill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you rewind the rerun of that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disappear before it is time to unpa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eschool children learn to retie their la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unsafe to preheat the oven while you are g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rains heav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flash of light in the sky during a 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loud sound in the sky that comes after a flash of 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eavy rain, snow, or h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 – moves quickly 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9" descr="storm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1600200"/>
            <a:ext cx="2762280" cy="2133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storm350x4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600200"/>
            <a:ext cx="2074680" cy="251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ice_storm_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89520"/>
            <a:ext cx="3200400" cy="2117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3886200"/>
            <a:ext cx="2438280" cy="2293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9" descr="snowstorm0108jv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4343400"/>
            <a:ext cx="2295720" cy="1725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1" descr="storm_Fabiano_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" y="160020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ght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7" descr="lightn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lightning-gallery-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600200"/>
            <a:ext cx="2628720" cy="209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lightn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70440"/>
            <a:ext cx="3048120" cy="2135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Lightning%2520%26%2520Tornad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15000" y="3908520"/>
            <a:ext cx="2962440" cy="221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rain-and-lightni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5320" y="160020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purple%2520lightning"/>
          <p:cNvPicPr/>
          <p:nvPr/>
        </p:nvPicPr>
        <p:blipFill>
          <a:blip r:embed="rId12"/>
          <a:stretch/>
        </p:blipFill>
        <p:spPr>
          <a:xfrm>
            <a:off x="3657600" y="4800600"/>
            <a:ext cx="1828800" cy="1289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9" descr="lightning"/>
          <p:cNvPicPr/>
          <p:nvPr/>
        </p:nvPicPr>
        <p:blipFill>
          <a:blip r:embed="rId13"/>
          <a:stretch/>
        </p:blipFill>
        <p:spPr>
          <a:xfrm>
            <a:off x="3809880" y="350532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its with noise and for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loud, deep sou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tr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l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udg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iving a small pu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brood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worrying or thinking h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u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come across words you don’t understand, there are strategies you can u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suffix or the two shorter words in a compound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movie was a reeru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movie was a rerun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she will unplug the Light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She will unplug the ligh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hear about a doctor who helps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n animal you have helped or seen during a storm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320760"/>
            <a:ext cx="863784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066680" y="2057400"/>
          <a:ext cx="7162920" cy="418788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nimal docto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y attend school for a long time. They study veterinary medicine. What would you like to stud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 - lut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one damages the air, soil, or water by making it dirty with harmful substances, we say the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il spills from ships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wa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moke from the factor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air around u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0" name="Picture 7" descr="Water-pollution"/>
          <p:cNvPicPr/>
          <p:nvPr/>
        </p:nvPicPr>
        <p:blipFill>
          <a:blip r:embed="rId1"/>
          <a:stretch/>
        </p:blipFill>
        <p:spPr>
          <a:xfrm>
            <a:off x="6616800" y="160020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coalplant"/>
          <p:cNvPicPr/>
          <p:nvPr/>
        </p:nvPicPr>
        <p:blipFill>
          <a:blip r:embed="rId2"/>
          <a:stretch/>
        </p:blipFill>
        <p:spPr>
          <a:xfrm>
            <a:off x="457200" y="1600200"/>
            <a:ext cx="2098800" cy="2819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Lawyermarketingpollution"/>
          <p:cNvPicPr/>
          <p:nvPr/>
        </p:nvPicPr>
        <p:blipFill>
          <a:blip r:embed="rId3"/>
          <a:stretch/>
        </p:blipFill>
        <p:spPr>
          <a:xfrm>
            <a:off x="2743200" y="1600200"/>
            <a:ext cx="3657600" cy="2409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pollute"/>
          <p:cNvPicPr/>
          <p:nvPr/>
        </p:nvPicPr>
        <p:blipFill>
          <a:blip r:embed="rId4"/>
          <a:stretch/>
        </p:blipFill>
        <p:spPr>
          <a:xfrm>
            <a:off x="457200" y="4524480"/>
            <a:ext cx="2209680" cy="1619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5" descr="creek%2520grate"/>
          <p:cNvPicPr/>
          <p:nvPr/>
        </p:nvPicPr>
        <p:blipFill>
          <a:blip r:embed="rId5"/>
          <a:stretch/>
        </p:blipFill>
        <p:spPr>
          <a:xfrm>
            <a:off x="2971800" y="4114800"/>
            <a:ext cx="1557360" cy="2000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7" descr="wsci_01_img0096"/>
          <p:cNvPicPr/>
          <p:nvPr/>
        </p:nvPicPr>
        <p:blipFill>
          <a:blip r:embed="rId6"/>
          <a:stretch/>
        </p:blipFill>
        <p:spPr>
          <a:xfrm>
            <a:off x="4800600" y="4191120"/>
            <a:ext cx="1562040" cy="1952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9" descr="deadfish"/>
          <p:cNvPicPr/>
          <p:nvPr/>
        </p:nvPicPr>
        <p:blipFill>
          <a:blip r:embed="rId7"/>
          <a:stretch/>
        </p:blipFill>
        <p:spPr>
          <a:xfrm>
            <a:off x="6781680" y="4745160"/>
            <a:ext cx="1924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 - lease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set it free or let it g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the young raccoon’s foot is healed, the vet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 into the w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baby birds as soon as they can f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are word parts that are at the end of some words.  Look at these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er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ese words because you know how to read words with suf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over the suffix, read the base word, and then blend the base word and the suffix to read the whole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suffixes have a specific mea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ly     in a ____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ful    full of _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er, -or      a person who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20:33Z</dcterms:modified>
  <cp:revision>30</cp:revision>
  <dc:subject/>
  <dc:title>Slide 1</dc:title>
</cp:coreProperties>
</file>